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AA78-080E-401B-9EC2-EDCB32E5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B80A-89ED-43CF-B1B3-B0D204AD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825B-9815-420A-8069-7D8A9A195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6C84-6AC3-4CFB-90AD-CD66F659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08B0-CA33-48E2-90BD-035AA62F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5BC5-2D2F-4CC2-80F8-20E5BD6C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C87A-4C20-43E2-BA40-B8A78E8A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B81C-5878-4FEB-BBAE-B2E219BC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6983-71FD-487E-9B47-0700DC57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A3BD-19AE-4433-B0FE-38BED16B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07AC-472D-4A1B-A5A4-E2FC30DF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3DAE-CEA1-486E-B19E-0F6274B9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FB43-53A1-4FD0-8CAF-366ADE6BB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GUNA general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 Cur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1th July 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99"/>
                </a:solidFill>
                <a:latin typeface="Arial"/>
              </a:rPr>
              <a:t>1) Working Groups for the design study (2h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.    Tank Instru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.    Underground Tan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3.    DAQ &amp; Cali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4.    Cosmic Rays, Local Backgrounds, Mater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5.    Site excav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6.    Liqui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7.    Safety &amp;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.    Physics &amp; Simul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99"/>
                </a:solidFill>
                <a:latin typeface="Arial"/>
              </a:rPr>
              <a:t>2) Review of the  Physics topics in the paper: (1h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) Proton dec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b) supernova phys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) atmospheric neutr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) solar neutr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e) reactor neutr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) geoneutr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) neutrino astrophysics other top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) dark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) neutrinos with be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99"/>
                </a:solidFill>
                <a:latin typeface="Arial"/>
              </a:rPr>
              <a:t>3) Common tools (1h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) Update on R&amp;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b) Discussion on soft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) A common Theory advisory committee 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99"/>
                </a:solidFill>
                <a:latin typeface="Arial"/>
              </a:rPr>
              <a:t>4) FP7 organisation matter (1h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08:44:35Z</dcterms:created>
  <dc:creator>J.E Campagne</dc:creator>
  <dc:description/>
  <dc:language>en-US</dc:language>
  <cp:lastModifiedBy>J.E Campagne</cp:lastModifiedBy>
  <dcterms:modified xsi:type="dcterms:W3CDTF">2006-07-21T10:19:46Z</dcterms:modified>
  <cp:revision>2</cp:revision>
  <dc:subject/>
  <dc:title>LAGUNA general meeting</dc:title>
</cp:coreProperties>
</file>